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FE7-DAA7-4DA0-9484-BA45ADAC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29C2-E5D9-4D62-A8BE-48693279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5A5-2A07-4F81-BDA5-C8E68355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507-3F76-43F9-9C73-95EC43CB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4041-1DAF-434F-8944-1658A850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461-2A16-4B3C-AF5F-A49B5288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2F4-340F-4D02-B49A-10920973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58B-02B8-4932-9F44-98AF36B9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56A0-5DB2-47DA-905A-E93D1636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96C-A070-423F-81C0-48CD680F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2A6-ADCC-46C5-ACAE-D0742DF8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E85E-EB1C-48D1-99E7-7C9FFFC5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F592-0C1F-47A0-BB05-C5CF01DBB4F1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APITOL 1</a:t>
            </a: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Calibri"/>
              </a:rPr>
              <a:t>SISTEME DE OPE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Calibri"/>
              </a:rPr>
              <a:t>NAVIGARE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DIRECTOR PROI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Substituent text 2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FISIER SUNET  -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ine 1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4410000" cy="3305160"/>
          </a:xfrm>
          <a:prstGeom prst="rect">
            <a:avLst/>
          </a:prstGeom>
          <a:ln w="0">
            <a:noFill/>
          </a:ln>
        </p:spPr>
      </p:pic>
      <p:pic>
        <p:nvPicPr>
          <p:cNvPr id="47" name="Imagine 4" descr=""/>
          <p:cNvPicPr/>
          <p:nvPr/>
        </p:nvPicPr>
        <p:blipFill>
          <a:blip r:embed="rId2"/>
          <a:stretch/>
        </p:blipFill>
        <p:spPr>
          <a:xfrm>
            <a:off x="4357800" y="3143160"/>
            <a:ext cx="46101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FISIER AUDIO CU FUND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ine 4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3807000" cy="2857320"/>
          </a:xfrm>
          <a:prstGeom prst="rect">
            <a:avLst/>
          </a:prstGeom>
          <a:ln w="0">
            <a:noFill/>
          </a:ln>
        </p:spPr>
      </p:pic>
      <p:pic>
        <p:nvPicPr>
          <p:cNvPr id="50" name="Imagine 10" descr=""/>
          <p:cNvPicPr/>
          <p:nvPr/>
        </p:nvPicPr>
        <p:blipFill>
          <a:blip r:embed="rId2"/>
          <a:stretch/>
        </p:blipFill>
        <p:spPr>
          <a:xfrm>
            <a:off x="4714920" y="1428840"/>
            <a:ext cx="3881520" cy="2916000"/>
          </a:xfrm>
          <a:prstGeom prst="rect">
            <a:avLst/>
          </a:prstGeom>
          <a:ln w="0">
            <a:noFill/>
          </a:ln>
        </p:spPr>
      </p:pic>
      <p:pic>
        <p:nvPicPr>
          <p:cNvPr id="51" name="Imagine 34" descr=""/>
          <p:cNvPicPr/>
          <p:nvPr/>
        </p:nvPicPr>
        <p:blipFill>
          <a:blip r:embed="rId3"/>
          <a:stretch/>
        </p:blipFill>
        <p:spPr>
          <a:xfrm>
            <a:off x="2143080" y="350028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CREARE PAGINI WIKI </a:t>
            </a: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– ADAUGARE FIS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ADAUGARE IMAGINI SUNETE PE WIK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POSTARE EVALUARI PE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3:45:57Z</dcterms:created>
  <dc:creator>user</dc:creator>
  <dc:description/>
  <dc:language>en-US</dc:language>
  <cp:lastModifiedBy>CARMEN</cp:lastModifiedBy>
  <dcterms:modified xsi:type="dcterms:W3CDTF">2012-02-12T15:34:06Z</dcterms:modified>
  <cp:revision>2</cp:revision>
  <dc:subject/>
  <dc:title>CAPITOL 1  </dc:title>
</cp:coreProperties>
</file>